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4642-1AE9-428B-AE74-3EAAC556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3D8E-2BA3-4844-81D5-4526EF02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FAC0-4FCC-4A41-BC6C-F5B5E0D3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6018-FACF-4167-9A30-94E27905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1E36-4EF2-43DB-8C4B-18868B92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2ED6-05A7-41C2-8AAF-9BBD7652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A0F5-68AE-4F97-801C-77454E90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A6F1-EA15-4D5F-878F-C6D861AC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BB04-E8A1-4030-A2B4-EBC71854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1D8A-54B5-430C-8886-6896FC3B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0248-AD14-4B8B-A611-2D561E86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5B43-B027-450B-B612-4F7C39B9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A979-8119-4256-A8D6-E972A05EB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40 Svoje stádo vedieš, Pan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Svoje stádo vedieš, Pa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k pastvám sviežim, zelený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Slovo tvoje nepresta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posilou byť zomdleným.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vce svoje z tejto ze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ocným chrániš ramen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úšťou sveta vedieš ver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 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j spásy pram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m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oho, Pane, ak nie teb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lávi našej vďaky žal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ď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i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s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išiel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 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b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 nás trpel, umieral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Radostne znie naša pies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keď nás vedie Spasit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zaženie strach, smútok, ties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e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j slávy kynie cie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ane, drahé Slovo tvo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etlom je a pokrm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sile tvojej všetky bo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vŕšime víťazstvom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Už sa blíži čas ten blah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sa skončí naša pú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 u Otca, v dome sláv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budeme môc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p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nú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4:03:00Z</dcterms:modified>
  <cp:revision>22</cp:revision>
  <dc:subject/>
  <dc:title>Je veľký náš Pán, on slávy je Kráľ Nech do všetkých strán  spev vrúcnych znie chvál.</dc:title>
</cp:coreProperties>
</file>